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33C1D-F783-49A5-89E9-4500721B3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780EC-0A45-44EA-B74A-8FD575AD8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EA7F1E-0398-4EAA-8FA3-16AACC1FFD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EFF1A1-D1FE-4104-A48C-A14976F6D9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BF61E9-188F-4FBA-AA8F-E398C0B6F8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FA5116-72AC-4917-B262-0D2DD12C61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FDB86C-8119-4DE7-8E8D-1085AA4A42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6AD228-B1C3-4A8C-8884-044058911C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B826BE-D65C-44FA-9C32-FAE0A0D0C2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0B7597-FD02-49A2-9BFB-75CCE7C1A3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9D8391-947A-4260-B568-968BD40BE4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34B7222-AB73-47BC-B8A1-0ACAF5861A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7FF87-CC21-4CED-9EE5-E0CDE7CFE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9077E7-A88E-4AF4-946D-4CBE29693A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957A9B-30FA-4B08-9E46-9C538CE82F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311320-F304-42DB-A4E7-E7ACE204C7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E01DA1-B618-48FF-B751-695CBC0ACD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00512CC-16F7-47FB-ACBC-BA29E927E8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217E7D-0815-4CCF-9542-E5726DBE13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81F23F-47AA-43C6-A123-22373B697C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4C3933-C1F9-4FAF-B21C-E0B23CBC3E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D944F0-694E-4E00-B4DA-DB9D413035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0134AB9-640A-4A10-856E-2E917A007C7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7E0C6-DAE9-431A-8848-7C186ADC5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4180539-86D2-4D73-99A7-0F0745FBEE8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BB8A6DE-F367-47D2-885B-B16093E6053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09C604-48BF-4A23-B904-2DC8657B64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309935-ACFE-4261-BA2E-05E71831E7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35F2BD-DB8C-45EC-9E53-560C47326E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143795-8F53-49D6-8A19-3F91DD5D83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095B10-922B-41DD-B891-9E1501B2E3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49F9AF-C3B2-48AD-9BE9-97C75A0E47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2A66C0-C562-45C6-BB00-9AB021A16E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D1EC16-203E-494D-9A0A-5BBE9C7999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A25DCB-4405-44D7-8D2E-A9E269854B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FEFC36-CC37-469A-8719-EEB92BE777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C5EEF09-6DC7-45E9-B082-E3633B3B0C9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DD4A37E-735E-492D-BA44-919FCB62AA7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3EE3ED7-8207-4B33-A94B-D03500C4C3C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9FF361-E674-4235-A16F-0E7A35C817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6C66A7-F114-4C01-9384-F6E1860FB1B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2BC0F2-EF6E-4454-AD4E-CDE1191B849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556F035-7501-471A-B6F4-95A4EF6B94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D33FF02-B559-477B-AC8E-332C1B38D3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FD0C6E-7AB8-4FA7-BCE6-B51C4C9ED0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83D8C-1DEA-431A-8E6C-F3ABC72CA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B093CA-F592-4009-B041-AED568F8D1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2EB83A-7D0B-414B-8F48-B880822745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78C6671-3416-4654-822B-EE2CBC32A2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055F03F-A4DB-4AEF-9760-23ADFAA77B4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3D08D32-CA26-45CB-9991-51B5260AFCB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9FF0D-BEED-45BD-B872-A1C7A61DA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BFAEB-3628-40E6-A705-CA8D54B12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E7E73-EB7A-4D08-8CEE-262E26646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5A27F-350F-4B32-8BF1-1E5991DC9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0206D-77A4-495D-8A19-271B6B0DF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213EA-6D87-403A-804A-D1B75B0D1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D4260-CBFB-4848-AA5A-A096F510E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80480-4FEA-4B62-8A09-D561949A0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C3107-BB1F-4CF6-A226-486189A09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0866CA-BDA1-4F41-B218-08CC6195A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CB78E8-8988-40B5-9FA2-70F0DCF04C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FB68A5-2815-4E4A-BBF7-A9AEBB6DE6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F3E2E8-9636-4368-B053-9FFDDAAABE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15DCD8-54DC-4CBC-B6BC-6373C82FC2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AD6B3F-3C22-4D30-9A51-A25BC561F3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7B7BCF-4A68-4483-A302-AADC2EB7C4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CE7AE-AA8A-4996-AD17-08FA86FB9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18C70F-D8E4-4571-862F-9000B8F044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9338BC-5415-4D71-8A16-88D49A0A9B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78E330-48A0-4AF8-BD48-802E41D274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97D519-6708-4DBB-A4EB-50E51165DD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005792-A4B5-4678-BA74-8A3298F15B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027A63-EF28-4D01-AF55-15502967F2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2EFC04-9A11-4EA0-9E2C-862082206E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CCF36A-9F29-4A90-ACB6-6F1CBF0144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859964-B8AD-42D2-9724-FD87A597D7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17FD45-4D17-4C4F-B6F1-B922C5A7FA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93710-6957-4EC8-BEF5-2BDECC1AE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6A16BE-3E87-4BC0-B620-0326991440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1A94D4-EF79-4C01-A91D-934ED468B5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472C19-362D-424D-8365-9F6C98F6CA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4169CF-46E5-45A3-879B-DBD0FF8433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A7855F-93A1-4612-AAA4-5CC09073C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0BAFF1-30D8-4CB6-A8FB-3241805E6E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68F5F6-F8F5-4C76-BA40-376CB4A849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003725-7B19-49C7-885B-5125480213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D5E9A0-AB24-4058-91EB-4C5871E7F0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380DF2-FB8F-4034-9E8F-698B59B2AD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77F5C-9AAE-4FF8-877E-7D89E4505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8D0257-66E0-4958-ADD7-2F315BA4BB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7BFA05-6EE5-4581-814F-5DF2FAAB41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037B81-493B-41F7-A104-F1CD1393CA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DA684F-5A36-45F0-A5CC-5765604BEF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805226-3CF7-4A3B-8774-BD5CC0B427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2BABEC-FA82-4D6E-AEF3-E78813102F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C33248-5E0C-4FA8-AEE0-EC323F014B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F47A91-61FD-4C3E-A281-53CD718235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29C95D-1BEE-4067-BEE3-051393CC4A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D761D5-A4BB-497C-B8AB-9CBF3B06BF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93E25-05A2-4D85-8A72-20911DC35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E24DE2-78D3-4D83-A784-0909576F7D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ACCE9B-7576-4059-805B-34FC312A73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91D1EC-B9E2-428D-B3F8-D7943269EF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139C66-7368-43BD-B76D-A83E26F335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FAEF45-B273-484C-8ACF-A920255F69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F24A96-DE20-4B14-BDEF-0CE323F7AB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3595F4-9B85-4206-AB3D-455EE0F9B8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7A72D6-FA4D-4683-9FA6-335BB41E74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CA1A40-2775-4041-A2FF-A4A3764457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0E4DEB-2459-4543-8C3B-52E7B4A437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BDE62-113C-49FB-882E-C02604948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D7E193-19C0-49DF-8E54-FDD2E45BF1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6B4D76-D91C-466E-B6E8-791F3B529C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43607C-C38A-4602-80BD-9B84F19365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F128D3-0E0C-4899-8A26-1995E48582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B819CE-B90A-448F-A0F8-E33DBAAD31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49BA13-BD06-45AD-9D2B-1ABAE2574F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874164-F5A6-4AB0-A62A-74DE21EE83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DADAD0-DAB9-48A8-ACD8-E0E70D7464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E0E1DE-7FD2-44DF-8600-6173C86558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A99217-3DA0-4C18-92D8-6E5DDAF736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1BFB1-95DE-42AF-AE06-6DD540447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30B0A3-E4AF-4367-A779-E866FC0029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AF36D6-8470-455D-BF34-4BF2D449D1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184C63-BA9B-4D8D-BD60-60257224FD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84C471-0285-453E-86ED-11DA8609E7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59B7CB-D517-4C60-8BF0-9890E9B403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696371-51DC-4327-AA9B-6987C2690F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3648DF-BEAA-4670-81D0-B90E664E82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2BDA7E-49A9-431B-A395-EE44BAAFD9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68FF73-B90F-45E1-BC17-2D344FF442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F30E19-32A2-4BDB-B2CF-0D315F0C0D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33CF6-FEC6-4286-A9A9-E78D07138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5AE257-EC57-46D0-8CA7-29005B89AE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7E9BB0-8E66-4261-8A82-F842580CAA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DD967D-3BA9-407D-AEA9-E95ED6AA58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C4A956-BA54-4837-8E46-C83E8F7B9B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4B9526-EF9C-44BF-8B44-73B8B1971F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F09965-2E3B-497A-964F-AC1F79036C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1E2A4C-29D5-4483-B71A-6BE0551527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331D19-34F8-40A1-8116-AD15CC54A1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9B8664-0028-4AEB-8E3D-42C339CDB2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EB75B2-93F7-4D1F-9D9A-0BE67952A9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415F-66C7-43B0-864C-2E6D79FE40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6AC7-4066-4413-A161-0D5BDEB1E0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2396-0EE6-4769-857A-2EBB887309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81646-4E6F-4648-8A13-D0636736A9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809B8-CC04-419E-A39E-EDB3819021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2C82E-6B20-4437-97F3-83A0B3A93A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BD5B-EBD0-40BC-9241-99C9DACCF2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CE15-C731-444A-857E-9DF9B815E0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FBCD-101D-4684-928B-7C71AB29A0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656F-6C34-40E2-A773-F45EAE1F04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1809-A4C3-42F5-8A0C-B71CAC88F4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7782A-563E-44A0-A01E-B2DEDC1F1F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alibri"/>
              </a:rPr>
              <a:t>BBANKS</a:t>
            </a:r>
            <a:r>
              <a:rPr b="0" lang="en-US" sz="2200" spc="-1" strike="noStrike">
                <a:solidFill>
                  <a:srgbClr val="000000"/>
                </a:solidFill>
                <a:latin typeface="Calibri"/>
              </a:rPr>
              <a:t>Pharmaceuticals </a:t>
            </a:r>
            <a:endParaRPr b="0" lang="en-US" sz="2200" spc="-1" strike="noStrike">
              <a:solidFill>
                <a:srgbClr val="000000"/>
              </a:solidFill>
              <a:latin typeface="Calibri"/>
            </a:endParaRPr>
          </a:p>
        </p:txBody>
      </p:sp>
      <p:sp>
        <p:nvSpPr>
          <p:cNvPr id="493" name="PlaceHolder 2"/>
          <p:cNvSpPr>
            <a:spLocks noGrp="1"/>
          </p:cNvSpPr>
          <p:nvPr>
            <p:ph type="subTitle"/>
          </p:nvPr>
        </p:nvSpPr>
        <p:spPr>
          <a:xfrm>
            <a:off x="151920" y="4876920"/>
            <a:ext cx="312444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rian Needles</a:t>
            </a:r>
            <a:endParaRPr b="0" lang="en-US" sz="3200" spc="-1" strike="noStrike">
              <a:solidFill>
                <a:srgbClr val="000000"/>
              </a:solidFill>
              <a:latin typeface="Calibri"/>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Keely Bonner</a:t>
            </a:r>
            <a:endParaRPr b="0" lang="en-US" sz="3200" spc="-1" strike="noStrike">
              <a:solidFill>
                <a:srgbClr val="000000"/>
              </a:solidFill>
              <a:latin typeface="Calibri"/>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teph Adams</a:t>
            </a:r>
            <a:endParaRPr b="0" lang="en-US" sz="3200" spc="-1" strike="noStrike">
              <a:solidFill>
                <a:srgbClr val="000000"/>
              </a:solidFill>
              <a:latin typeface="Calibri"/>
            </a:endParaRPr>
          </a:p>
        </p:txBody>
      </p:sp>
      <p:pic>
        <p:nvPicPr>
          <p:cNvPr id="494" name="Picture 5" descr="pills-money"/>
          <p:cNvPicPr/>
          <p:nvPr/>
        </p:nvPicPr>
        <p:blipFill>
          <a:blip r:embed="rId1"/>
          <a:stretch/>
        </p:blipFill>
        <p:spPr>
          <a:xfrm>
            <a:off x="3886200" y="1905120"/>
            <a:ext cx="4343400" cy="372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BANKS</a:t>
            </a:r>
            <a:endParaRPr b="0" lang="en-US" sz="4400" spc="-1" strike="noStrike">
              <a:solidFill>
                <a:srgbClr val="000000"/>
              </a:solidFill>
              <a:latin typeface="Calibri"/>
            </a:endParaRPr>
          </a:p>
        </p:txBody>
      </p:sp>
      <p:sp>
        <p:nvSpPr>
          <p:cNvPr id="496" name=""/>
          <p:cNvSpPr txBox="1"/>
          <p:nvPr/>
        </p:nvSpPr>
        <p:spPr>
          <a:xfrm>
            <a:off x="15228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ed in 200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created over 15 original neural drugs that successfully sell all around the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tune 500 Compa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factory is Chicago</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nder: Steph Adam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wner: Brian Needl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CEO: Keely Bonner</a:t>
            </a:r>
            <a:endParaRPr b="0" lang="en-US" sz="2800" spc="-1" strike="noStrike">
              <a:solidFill>
                <a:srgbClr val="000000"/>
              </a:solidFill>
              <a:latin typeface="Calibri"/>
            </a:endParaRPr>
          </a:p>
        </p:txBody>
      </p:sp>
      <p:pic>
        <p:nvPicPr>
          <p:cNvPr id="497" name="Picture 5" descr="pr_new_factory"/>
          <p:cNvPicPr/>
          <p:nvPr/>
        </p:nvPicPr>
        <p:blipFill>
          <a:blip r:embed="rId1"/>
          <a:stretch/>
        </p:blipFill>
        <p:spPr>
          <a:xfrm>
            <a:off x="4686480" y="4084560"/>
            <a:ext cx="4457520" cy="277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 Dies from Puffer Fish Poisoning </a:t>
            </a:r>
            <a:r>
              <a:rPr b="0" lang="en-US" sz="3600" spc="-1" strike="noStrike">
                <a:solidFill>
                  <a:srgbClr val="000000"/>
                </a:solidFill>
                <a:latin typeface="Calibri"/>
              </a:rPr>
              <a:t>	</a:t>
            </a:r>
            <a:r>
              <a:rPr b="0" lang="en-US" sz="3600" spc="-1" strike="noStrike">
                <a:solidFill>
                  <a:srgbClr val="000000"/>
                </a:solidFill>
                <a:latin typeface="Calibri"/>
              </a:rPr>
              <a:t>	</a:t>
            </a:r>
            <a:r>
              <a:rPr b="0" lang="en-US" sz="3600" spc="-1" strike="noStrike">
                <a:solidFill>
                  <a:srgbClr val="000000"/>
                </a:solidFill>
                <a:latin typeface="Calibri"/>
              </a:rPr>
              <a:t>	</a:t>
            </a:r>
            <a:r>
              <a:rPr b="0" lang="en-US" sz="3600" spc="-1" strike="noStrike">
                <a:solidFill>
                  <a:srgbClr val="000000"/>
                </a:solidFill>
                <a:latin typeface="Calibri"/>
              </a:rPr>
              <a:t>	</a:t>
            </a:r>
            <a:r>
              <a:rPr b="0" lang="en-US" sz="3600" spc="-1" strike="noStrike">
                <a:solidFill>
                  <a:srgbClr val="000000"/>
                </a:solidFill>
                <a:latin typeface="Calibri"/>
              </a:rPr>
              <a:t>	</a:t>
            </a:r>
            <a:r>
              <a:rPr b="0" lang="en-US" sz="3600" spc="-1" strike="noStrike">
                <a:solidFill>
                  <a:srgbClr val="000000"/>
                </a:solidFill>
                <a:latin typeface="Calibri"/>
              </a:rPr>
              <a:t>	</a:t>
            </a:r>
            <a:r>
              <a:rPr b="0" lang="en-US" sz="3600" spc="-1" strike="noStrike">
                <a:solidFill>
                  <a:srgbClr val="000000"/>
                </a:solidFill>
                <a:latin typeface="Calibri"/>
              </a:rPr>
              <a:t>	</a:t>
            </a:r>
            <a:r>
              <a:rPr b="0" lang="en-US" sz="2200" spc="-1" strike="noStrike">
                <a:solidFill>
                  <a:srgbClr val="000000"/>
                </a:solidFill>
                <a:latin typeface="Calibri"/>
              </a:rPr>
              <a:t>June 15, 2009</a:t>
            </a:r>
            <a:endParaRPr b="0" lang="en-US" sz="2200" spc="-1" strike="noStrike">
              <a:solidFill>
                <a:srgbClr val="000000"/>
              </a:solidFill>
              <a:latin typeface="Calibri"/>
            </a:endParaRPr>
          </a:p>
        </p:txBody>
      </p:sp>
      <p:sp>
        <p:nvSpPr>
          <p:cNvPr id="4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ne afternoon a 31 year old male, Andrew Marcus, was at a BBQ with his friends.  He brought over the puffer fish he caught earlier that morning for the exotic menu.  Andrew was the first to try, and right away the symptoms starting showing: numbness in his lips, tough, face and neck; nausea and severe vomiting; difficulty talking; difficulty breathing; and showed signs of paralysis in his upper body.</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
          <p:cNvSpPr txBox="1"/>
          <p:nvPr/>
        </p:nvSpPr>
        <p:spPr>
          <a:xfrm>
            <a:off x="380880" y="457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hospital was called immediately and he was rushed there in an ambulance.  Unfortunately, Andrew didn’t make it to the hospital and died on the way.  The autopsy report showed that he had been a victim of tetrodotoxin poisoning, from eating the poisonous puffer fish. </a:t>
            </a:r>
            <a:endParaRPr b="0" lang="en-US" sz="3200" spc="-1" strike="noStrike">
              <a:solidFill>
                <a:srgbClr val="000000"/>
              </a:solidFill>
              <a:latin typeface="Calibri"/>
            </a:endParaRPr>
          </a:p>
        </p:txBody>
      </p:sp>
      <p:pic>
        <p:nvPicPr>
          <p:cNvPr id="501" name="Picture 5" descr="PufferFish"/>
          <p:cNvPicPr/>
          <p:nvPr/>
        </p:nvPicPr>
        <p:blipFill>
          <a:blip r:embed="rId1"/>
          <a:stretch/>
        </p:blipFill>
        <p:spPr>
          <a:xfrm>
            <a:off x="4876920" y="3959280"/>
            <a:ext cx="3657600" cy="264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trodotoxin– How It Kills</a:t>
            </a:r>
            <a:endParaRPr b="0" lang="en-US" sz="4400" spc="-1" strike="noStrike">
              <a:solidFill>
                <a:srgbClr val="000000"/>
              </a:solidFill>
              <a:latin typeface="Calibri"/>
            </a:endParaRPr>
          </a:p>
        </p:txBody>
      </p:sp>
      <p:sp>
        <p:nvSpPr>
          <p:cNvPr id="503" name=""/>
          <p:cNvSpPr txBox="1"/>
          <p:nvPr/>
        </p:nvSpPr>
        <p:spPr>
          <a:xfrm>
            <a:off x="456840" y="1599840"/>
            <a:ext cx="518148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ally in our nerve cells in order to send an impulse form one nerve to another, the cell sending the impulse has to be depolariz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caused by of the surplus uptake of Na</a:t>
            </a:r>
            <a:r>
              <a:rPr b="0" lang="en-US" sz="2400" spc="-1" strike="noStrike" baseline="30000">
                <a:solidFill>
                  <a:srgbClr val="000000"/>
                </a:solidFill>
                <a:latin typeface="Calibri"/>
              </a:rPr>
              <a:t>+ </a:t>
            </a:r>
            <a:r>
              <a:rPr b="0" lang="en-US" sz="2400" spc="-1" strike="noStrike">
                <a:solidFill>
                  <a:srgbClr val="000000"/>
                </a:solidFill>
                <a:latin typeface="Calibri"/>
              </a:rPr>
              <a:t>ion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depolarization will send the impulse further down the axon of the nerve. Eventually getting to the adjacent cell. </a:t>
            </a:r>
            <a:endParaRPr b="0" lang="en-US" sz="2400" spc="-1" strike="noStrike">
              <a:solidFill>
                <a:srgbClr val="000000"/>
              </a:solidFill>
              <a:latin typeface="Calibri"/>
            </a:endParaRPr>
          </a:p>
        </p:txBody>
      </p:sp>
      <p:pic>
        <p:nvPicPr>
          <p:cNvPr id="504" name="Picture 4" descr=""/>
          <p:cNvPicPr/>
          <p:nvPr/>
        </p:nvPicPr>
        <p:blipFill>
          <a:blip r:embed="rId1"/>
          <a:stretch/>
        </p:blipFill>
        <p:spPr>
          <a:xfrm>
            <a:off x="5486400" y="2666880"/>
            <a:ext cx="3376440" cy="266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trodotoxin– How It Kills cont…</a:t>
            </a:r>
            <a:endParaRPr b="0" lang="en-US" sz="4400" spc="-1" strike="noStrike">
              <a:solidFill>
                <a:srgbClr val="000000"/>
              </a:solidFill>
              <a:latin typeface="Calibri"/>
            </a:endParaRPr>
          </a:p>
        </p:txBody>
      </p:sp>
      <p:sp>
        <p:nvSpPr>
          <p:cNvPr id="506"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trodotoxin when introduced to the body will bind to the sodium ion channels in the nerve cells in that specific area and will spread.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it binds to the channels it prevents the uptake of Na</a:t>
            </a:r>
            <a:r>
              <a:rPr b="0" lang="en-US" sz="2800" spc="-1" strike="noStrike" baseline="30000">
                <a:solidFill>
                  <a:srgbClr val="000000"/>
                </a:solidFill>
                <a:latin typeface="Calibri"/>
              </a:rPr>
              <a:t>+</a:t>
            </a:r>
            <a:r>
              <a:rPr b="0" lang="en-US" sz="2800" spc="-1" strike="noStrike">
                <a:solidFill>
                  <a:srgbClr val="000000"/>
                </a:solidFill>
                <a:latin typeface="Calibri"/>
              </a:rPr>
              <a:t> ions so it can’t depolarize. </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ut the cell be depolarized no signal can be sent---ultimately the victim can’t do anything in that specific section </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using paralysis and dea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terodox</a:t>
            </a:r>
            <a:endParaRPr b="0" lang="en-US" sz="4400" spc="-1" strike="noStrike">
              <a:solidFill>
                <a:srgbClr val="000000"/>
              </a:solidFill>
              <a:latin typeface="Calibri"/>
            </a:endParaRPr>
          </a:p>
        </p:txBody>
      </p:sp>
      <p:sp>
        <p:nvSpPr>
          <p:cNvPr id="508" name=""/>
          <p:cNvSpPr txBox="1"/>
          <p:nvPr/>
        </p:nvSpPr>
        <p:spPr>
          <a:xfrm>
            <a:off x="457200" y="1600200"/>
            <a:ext cx="495288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r latest produc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ggest that every human should purchase our pill that will save your life in an unfortunate puffer-fish related situ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You know that numb feeling that you get after you eat a poisonous fish and will potentially kill you. Just take one Santerodox and save your own life from Tetrodotoxin poisoning, for only $49.99.”</a:t>
            </a:r>
            <a:endParaRPr b="0" lang="en-US" sz="2400" spc="-1" strike="noStrike">
              <a:solidFill>
                <a:srgbClr val="000000"/>
              </a:solidFill>
              <a:latin typeface="Calibri"/>
            </a:endParaRPr>
          </a:p>
        </p:txBody>
      </p:sp>
      <p:pic>
        <p:nvPicPr>
          <p:cNvPr id="509" name="Picture 5" descr="http://247things.files.wordpress.com/2009/08/031408-pill.jpg"/>
          <p:cNvPicPr/>
          <p:nvPr/>
        </p:nvPicPr>
        <p:blipFill>
          <a:blip r:embed="rId1"/>
          <a:stretch/>
        </p:blipFill>
        <p:spPr>
          <a:xfrm>
            <a:off x="4724280" y="2209680"/>
            <a:ext cx="4762800" cy="3124440"/>
          </a:xfrm>
          <a:prstGeom prst="rect">
            <a:avLst/>
          </a:prstGeom>
          <a:ln w="0">
            <a:noFill/>
          </a:ln>
        </p:spPr>
      </p:pic>
      <p:sp>
        <p:nvSpPr>
          <p:cNvPr id="510" name="Rectangle 2"/>
          <p:cNvSpPr/>
          <p:nvPr/>
        </p:nvSpPr>
        <p:spPr>
          <a:xfrm>
            <a:off x="5638680" y="3200400"/>
            <a:ext cx="2895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nterodo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terodox– How It Works</a:t>
            </a:r>
            <a:endParaRPr b="0" lang="en-US" sz="4400" spc="-1" strike="noStrike">
              <a:solidFill>
                <a:srgbClr val="000000"/>
              </a:solidFill>
              <a:latin typeface="Calibri"/>
            </a:endParaRPr>
          </a:p>
        </p:txBody>
      </p:sp>
      <p:sp>
        <p:nvSpPr>
          <p:cNvPr id="512" name=""/>
          <p:cNvSpPr txBox="1"/>
          <p:nvPr/>
        </p:nvSpPr>
        <p:spPr>
          <a:xfrm>
            <a:off x="456840" y="1294920"/>
            <a:ext cx="579132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Santerodox it ingested, it dissolves fast for instant relief and pinpoints where in the body the Tetrodotoxin is pres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anterodox will then attach it self to the Tetrodotoxin molecules and release them from of the sodium ion channel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owing more impulses to be sent from that area, stopping and reversing the paralysi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attached to the poison the Santerodox can be easily broken down in the liver—no harm. </a:t>
            </a:r>
            <a:endParaRPr b="0" lang="en-US" sz="2400" spc="-1" strike="noStrike">
              <a:solidFill>
                <a:srgbClr val="000000"/>
              </a:solidFill>
              <a:latin typeface="Calibri"/>
            </a:endParaRPr>
          </a:p>
        </p:txBody>
      </p:sp>
      <p:pic>
        <p:nvPicPr>
          <p:cNvPr id="513" name="Picture 5" descr="http://selfimprovementsites.com/images/take_the_blue_pill.jpg"/>
          <p:cNvPicPr/>
          <p:nvPr/>
        </p:nvPicPr>
        <p:blipFill>
          <a:blip r:embed="rId1"/>
          <a:stretch/>
        </p:blipFill>
        <p:spPr>
          <a:xfrm>
            <a:off x="6324480" y="1295280"/>
            <a:ext cx="2637000" cy="40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60"/>
            <a:ext cx="8229600" cy="38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alibri"/>
              </a:rPr>
              <a:t>THE END</a:t>
            </a:r>
            <a:endParaRPr b="0" lang="en-US" sz="15000" spc="-1" strike="noStrike">
              <a:solidFill>
                <a:srgbClr val="000000"/>
              </a:solidFill>
              <a:latin typeface="Calibri"/>
            </a:endParaRPr>
          </a:p>
        </p:txBody>
      </p:sp>
      <p:pic>
        <p:nvPicPr>
          <p:cNvPr id="515" name="Picture 5" descr="http://img.alibaba.com/photo/209229654/Red_and_Yellow_Capsules.jpg"/>
          <p:cNvPicPr/>
          <p:nvPr/>
        </p:nvPicPr>
        <p:blipFill>
          <a:blip r:embed="rId1"/>
          <a:stretch/>
        </p:blipFill>
        <p:spPr>
          <a:xfrm>
            <a:off x="914400" y="3048120"/>
            <a:ext cx="3505320" cy="348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5:33:41Z</dcterms:created>
  <dc:creator>xpstudent</dc:creator>
  <dc:description/>
  <dc:language>en-US</dc:language>
  <cp:lastModifiedBy> </cp:lastModifiedBy>
  <dcterms:modified xsi:type="dcterms:W3CDTF">2010-03-22T02:40:00Z</dcterms:modified>
  <cp:revision>7</cp:revision>
  <dc:subject/>
  <dc:title>BBANKSPharmaceuticals </dc:title>
</cp:coreProperties>
</file>